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010-7B12-46FE-9D0B-90A7468D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0B1-1512-45B4-AE05-98696FF31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AD1-E9DE-4C32-A4DF-B0407291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00B-E0D2-486B-BDB8-DAE0A2A6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6FF5-0CDE-4133-A739-54425E02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81B-5A85-4A88-BDBF-F00FFF33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A955-B0C7-4E28-A8E0-93F5723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1C3B-963D-49C1-A847-873FA598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A2D4-DDB5-4137-A70F-4D93A714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0B3-9A2D-44C4-A43A-D02D8864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8367-CBC7-4724-9C22-7E83521A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13A-5C39-449A-9BDA-B24836D2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64F-D24F-4E9E-AEBC-AD416799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9AC-7C51-45B7-8800-8853D754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1593-7BC2-4943-B7DB-15326F85E5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burntorangereport.com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8: Quantitativ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Guidelin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better than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/closed-ended questions - benefits and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ing and closing preamble and instructions important - especially if you’re not there to superv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 it before you use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Data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minal (categorical differences; student, staff, facult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dinal (rank order implied; e.g., year of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al (ranks w/ equivalent intervals - e.g., grade point aver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io (intervals amenable to mathematical manipulations; e.g, age in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the right one for the question at hand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kert Scale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5, 1-7, 1-9 s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dpoint - what does it mean?  If no opinion, give that 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force decisions with even number of options (1-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care in too many consecutive items with same polarity of options - leads to patterned respo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 of related questions measuring attitudes, beliefs, orientation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multiple intelligences, personality tests (others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es must actually measure what they claim, not be redund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e reliability - consistency in response patt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ify authenticity (esp. in web searches) - many scales are meaningless, published scales generally stro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description (55% of respondents are male, 75% under 25 said yes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-tabulation (males answered this, females answered th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lation (direction and strength of link between two variables - slope and r-valu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ation (inferential tests, confidence of vari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crip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Politics - News, Opinion and Analysis from CNN"/>
          <p:cNvPicPr/>
          <p:nvPr/>
        </p:nvPicPr>
        <p:blipFill>
          <a:blip r:embed="rId1"/>
          <a:stretch/>
        </p:blipFill>
        <p:spPr>
          <a:xfrm>
            <a:off x="2590920" y="1752480"/>
            <a:ext cx="4114800" cy="3546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2591640" y="548640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ttp://www.cnn.com/poli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ss Tab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Election Center 2008_ Primary Exit Polls - Elections &amp; Politics news from CNN"/>
          <p:cNvPicPr/>
          <p:nvPr/>
        </p:nvPicPr>
        <p:blipFill>
          <a:blip r:embed="rId1"/>
          <a:stretch/>
        </p:blipFill>
        <p:spPr>
          <a:xfrm>
            <a:off x="1981080" y="1600200"/>
            <a:ext cx="5639040" cy="40464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2596680" y="579132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nn.com/ELECTION/2008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es/results/epolls/index.html#W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re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TXturnout"/>
          <p:cNvPicPr/>
          <p:nvPr/>
        </p:nvPicPr>
        <p:blipFill>
          <a:blip r:embed="rId1"/>
          <a:stretch/>
        </p:blipFill>
        <p:spPr>
          <a:xfrm>
            <a:off x="762120" y="1676520"/>
            <a:ext cx="4895640" cy="466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19920" y="1752480"/>
            <a:ext cx="236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burntorangereport.co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Diary.do?diaryId=51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ing causation can be dangerous in previous examp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 to prove causation from correlation - must tie to logical explanation of correlation (which can itself be debatabl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: “mean-world” syndrome - does TV watching cause higher perceived dangers in the world, or do paranoid people seek shelter from the world in their houses and end up watching more TV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g. research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network questionnaire - who trusted whom in six dom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ed with three scales - interdependence, independence and pro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rrelational study - what relations existed between scales and position in network?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ation - not easy to pr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ons verified by respondent reflection and personal exper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ganizational redesign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ntitativ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qualitative, involves metr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thing reduced to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descriptive (e.g., counting) but inferential (e.g., predictive, indication of correl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 for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and data mining – probably not useful given circumstances, although latter might be used to gauge interest in 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veys – perhaps – depends on nature of population targe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User Interaction issues and scenarios/requirements plan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eri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specific measurement of phenomen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X related to Y (correlation) but X causes Y (causation) - provided overarching theoretical model is correct of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use in desig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and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ise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ality can be infer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constrain outside infl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hard to measure and determine causation in complex multivariate phenom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s fake tasks in fake contexts - validity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tion without being there - quantitative artifacts - e.g., Web access logs, click regions, turnstile count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s consequences of actual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u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and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ults based in actual action vs. perception or i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for complete sample – not easily achieved in other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infrastructure set, data collection can be automa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concerns - data could be used for less than noble purpo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idence of actions might not reflect motivations for why actions are d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veys/Questionn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ethod of obtaining information from broad cross-section of 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of information directly depends on who is surveyed and the quality of questions as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ine tools help - e.g., http://www.surveymonkey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included in samp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y reache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ders vs. non-responders - are they qualitatively different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ing errors and confidence intervals (or, what +/- 3.5%, 19 times out of 20 mean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 of sampling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mbigu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is relevant to research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can be easily analy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ed in scope - take respondent’s attention span and willingness to help into accou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8:38:39Z</dcterms:created>
  <dc:creator/>
  <dc:description/>
  <dc:language>en-US</dc:language>
  <cp:lastModifiedBy>Sheridan College</cp:lastModifiedBy>
  <dcterms:modified xsi:type="dcterms:W3CDTF">2010-03-01T16:59:13Z</dcterms:modified>
  <cp:revision>35</cp:revision>
  <dc:subject/>
  <dc:title>CCT 333: Imagining the Audience in a Wired World</dc:title>
</cp:coreProperties>
</file>